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8E9-95BA-411F-8AE1-E6445E82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7FA-061F-4C66-B365-F7CBF8AE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1F7-D75D-4060-AF55-AFFE04B1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396-60A0-4900-8E52-FD9C00DE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C3D0-AE4F-4F5D-8208-60295B93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F3EC-719A-44E2-9000-0E92EB63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0DC9-129A-4DA3-9EF7-EA23C747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3BB2-81C8-4665-912B-D48E195C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A5F6-53B6-4FEB-85CA-25AA7056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CC16-FA95-4880-AD0A-B00E9780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F64F-2FCF-4EFB-AAA3-B487DB0D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E5DD-282D-4C27-A147-3D720FD3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B537-F3EE-4EA4-A04E-0C1847C2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BA5B-867B-43BB-A4AA-01F791E6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6B21-931F-4F52-9207-4CE3E4AC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A996-C73A-41D7-9836-03C3510B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2497-3EE2-4647-A59A-9C907D9D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B4B-EFB0-4E49-981C-5DD579A1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008-5BB7-45D2-8B48-00E00D0E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0E4F-27DB-44D0-B49F-182DD5E0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07E-991B-4054-B4D5-92715F81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8B5-643E-45AD-94A0-4D132383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1F8C-DD48-42D5-B732-1D5BBE6C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B47-BDF0-482E-897E-56FD5132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EC44-CFF3-4423-BA8A-A366B92544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2C49-D0FD-4846-8188-12FCA3973A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CKs Flow: Here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, and Back Ag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ala Guha, Jerry Qi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eja Putic, Adam Ca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/13/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E 686: SoC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33600" indent="-6336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size top level HDL without sc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33600" indent="-6336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 necessary I/O into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3600" indent="-55440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DD, VSS, Corners, Scan Enable, et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33600" indent="-6336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-synthesize this new verilog net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3600" indent="-55440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synthesis will insert scan cha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33600" indent="-6336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 proper scan.def file for Encou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Chain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the Scan and Test enable 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specific chains or le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TL compiler auto creat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FT rule che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s whether flop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scan ready – generally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command fixes errors? – Y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fix_dft_violations -async_set_reset -test_mode T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Details (con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define details of scan ch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, min number (for auto-gen.)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TSMC, maps all flops as scan fl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tell RTL compiler to reroute the scan and test enable signals to these fl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siz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l scan conn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2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 level, scan inserted, ne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def file containing scan chain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stem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- AutoChain_17_seg1_CLK_rising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+ START PIN DFT_sdi_1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+ FLOATING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0][isel][1] ( IN SI ) ( OUT Q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0][isel][2] ( IN SI ) ( OUT Q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0][isel][3] ( IN SI ) ( OUT Q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0][isel][4] ( IN SI ) ( OUT Q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0][pol] ( IN SI ) ( OUT Q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1][edge] ( IN SI ) ( OUT Q )</a:t>
            </a:r>
            <a:r>
              <a:rPr b="1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stem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Chain in Encoun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ed top netlist and .def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155600" y="627840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-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66120" y="62784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-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2" descr=""/>
          <p:cNvPicPr/>
          <p:nvPr/>
        </p:nvPicPr>
        <p:blipFill>
          <a:blip r:embed="rId1"/>
          <a:stretch/>
        </p:blipFill>
        <p:spPr>
          <a:xfrm>
            <a:off x="228600" y="2697120"/>
            <a:ext cx="4191120" cy="3571920"/>
          </a:xfrm>
          <a:prstGeom prst="rect">
            <a:avLst/>
          </a:prstGeom>
          <a:ln w="0">
            <a:noFill/>
          </a:ln>
        </p:spPr>
      </p:pic>
      <p:pic>
        <p:nvPicPr>
          <p:cNvPr id="131" name="3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26708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Chain in Encoun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d manually firs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nted to show scan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also work with Jerry’s .tcl 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th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outing -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4" descr=""/>
          <p:cNvPicPr/>
          <p:nvPr/>
        </p:nvPicPr>
        <p:blipFill>
          <a:blip r:embed="rId1"/>
          <a:stretch/>
        </p:blipFill>
        <p:spPr>
          <a:xfrm>
            <a:off x="4724280" y="3657600"/>
            <a:ext cx="411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 for Test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selectively scan y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verify scan ch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 needs library files in .v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means cannot generate test ve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not implemented Conform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Equivalence Chec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ts of manual constraints in the 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mory Gen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Jerry and Jiajing’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ied gen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d memories for SoCKs in TSM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wrapper necessary, HDL files had exactly the correct inputs and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cky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front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 end syn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ed verilog netl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ed and tested wishbone co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scan ch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28954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C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 / Software co-design env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on SPARC C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BA 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oftware that uses custom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, test bench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C compiler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ontribution to SoC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ed and verified wishbone c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ing verilog net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front and back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in TSMC .18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ed scan ch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 for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m Ca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ib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/O Pad Inser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n Chain Inser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s and Libr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ded on TSMC .18 um for p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SMC library also provides scan fl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n Artisan lib – No physical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library also allowed for easy porting of the generic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eneric library is similar to TSM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ied HDL files to match the .lib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was a manual change to the HD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removed one entire file from syn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ed to add VDD, VSS, corner, and scan pads to the top verilog net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synthesize pads with no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d the .io file for Encou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io file necessary for proper pad pla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Orient: R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ad: RingInst/pad42EM_A_21 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Orient: R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ad: RingInst/PCur 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Orient: R2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ad: RingInst/PVdd2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Orient: R2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ad: RingInst/PVss2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1" descr=""/>
          <p:cNvPicPr/>
          <p:nvPr/>
        </p:nvPicPr>
        <p:blipFill>
          <a:blip r:embed="rId1"/>
          <a:stretch/>
        </p:blipFill>
        <p:spPr>
          <a:xfrm>
            <a:off x="4919760" y="3087720"/>
            <a:ext cx="407196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Ch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n Chain – Provides ability to test sequential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a shift register in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existing registers as the shifter re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traightforward to implem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RTL compl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02:39:16Z</dcterms:created>
  <dc:creator> HPLP</dc:creator>
  <dc:description/>
  <dc:language>en-US</dc:language>
  <cp:lastModifiedBy> HPLP</cp:lastModifiedBy>
  <dcterms:modified xsi:type="dcterms:W3CDTF">2006-12-15T19:17:29Z</dcterms:modified>
  <cp:revision>11</cp:revision>
  <dc:subject/>
  <dc:title>SoCKs Flow: Here,  There, and Back Again</dc:title>
</cp:coreProperties>
</file>